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498-C174-4330-932A-0C29DDDE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6D1-1F3C-42E5-817C-AC51800D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F29-E2D6-4A6D-AFF4-FDAD4897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9EF-1DDF-4C17-BEF7-9FA4B67F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D45-A6FF-45FA-A2EF-2ED3FF5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63F-A659-4213-959D-C2076C2A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900-25BC-4B71-AF20-493B8783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2C1-DEB3-4F02-9EC5-85CF9089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083-147F-4795-9A22-054ABF33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AF9-852F-4F75-805D-DCAF8480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7D6-6021-4F80-900F-378CDBE5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9DA-356A-4F1D-8E6B-6879A965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FC63-C009-4D47-AC48-D6CF1ED09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google.com/imgres?q=french+toast&amp;hl=en&amp;gbv=2&amp;biw=1280&amp;bih=841&amp;tbm=isch&amp;imgrefurl=http://pinchmysalt.com/spiked-egg-nog-french-toast/&amp;tbnid=lTrE6N-M1olZ1M&amp;docid=6dwX78YH37jmjM&amp;ved=0CEEQhRYoAQ&amp;ei=0ot8T-jyLebh0QHPq8joCw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447920"/>
            <a:ext cx="6858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3ccff"/>
                </a:solidFill>
                <a:uFillTx/>
                <a:latin typeface="Copperplate Gothic Light"/>
              </a:rPr>
              <a:t>Las Comid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733920"/>
            <a:ext cx="6553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Copperplate Gothic Light"/>
              </a:rPr>
              <a:t>Por: Maddie Gr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pperplate Gothic Light"/>
              </a:rPr>
              <a:t>Para el desayuno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1219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1578240" cy="2390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4191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Light"/>
              </a:rPr>
              <a:t>Tostada franc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16002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590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2767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000" y="327600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Light"/>
              </a:rPr>
              <a:t>Ensalada de Fru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Light"/>
              </a:rPr>
              <a:t>El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4724280"/>
            <a:ext cx="2467080" cy="16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Light"/>
              </a:rPr>
              <a:t>El Jugo de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522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ara el almuerzo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3048120"/>
            <a:ext cx="2762280" cy="333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3705120" cy="2478240"/>
          </a:xfrm>
          <a:prstGeom prst="rect">
            <a:avLst/>
          </a:prstGeom>
          <a:ln w="50760">
            <a:solidFill>
              <a:srgbClr val="000000"/>
            </a:solidFill>
            <a:prstDash val="dash"/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3520" y="4572000"/>
            <a:ext cx="2743200" cy="2057400"/>
          </a:xfrm>
          <a:prstGeom prst="rect">
            <a:avLst/>
          </a:prstGeom>
          <a:ln w="38160">
            <a:solidFill>
              <a:srgbClr val="000000"/>
            </a:solidFill>
            <a:prstDash val="sysDot"/>
            <a:miter/>
          </a:ln>
        </p:spPr>
      </p:pic>
      <p:sp>
        <p:nvSpPr>
          <p:cNvPr id="59" name=""/>
          <p:cNvSpPr/>
          <p:nvPr/>
        </p:nvSpPr>
        <p:spPr>
          <a:xfrm>
            <a:off x="685800" y="38862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038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Light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47242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Light"/>
              </a:rPr>
              <a:t>La Lim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295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Una Boc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2860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ara la cena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2971800" cy="198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3457440" cy="2308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3124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a P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7339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as Alme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895840" cy="1886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4038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Un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267080" y="426708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5880" y="5105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pperplate Gothic Light"/>
              </a:rPr>
              <a:t>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5228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ara la merienda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190600" cy="219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1219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as F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Para el postre,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76228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05320" y="1600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Las Gal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5:22Z</dcterms:created>
  <dc:creator>gravesmad</dc:creator>
  <dc:description/>
  <dc:language>en-US</dc:language>
  <cp:lastModifiedBy>gravesmad</cp:lastModifiedBy>
  <dcterms:modified xsi:type="dcterms:W3CDTF">2012-04-04T18:23:57Z</dcterms:modified>
  <cp:revision>3</cp:revision>
  <dc:subject/>
  <dc:title>Slide 1</dc:title>
</cp:coreProperties>
</file>